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62B0B-674D-4F3B-A8F7-4E2C56E12C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A2834-BDCC-4B54-8E99-27B743E2E3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A9ECD552-0CFC-44D2-978A-3799748B4246}"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0A8A4A1-086D-483D-B26D-78729731303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ADAECC1-6FF0-4C8A-B82F-6947697D94E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2694CCE-ADB8-430C-ABC7-E83AECF2706D}" type="datetime">
              <a:rPr b="0" lang="en-US" sz="1200" spc="-1" strike="noStrike">
                <a:solidFill>
                  <a:srgbClr val="000000"/>
                </a:solidFill>
                <a:latin typeface="Times New Roman"/>
                <a:ea typeface="Arial"/>
              </a:rPr>
              <a:t>07/29/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7B17C7F-68E1-4A97-ABA0-3F3EF9F38783}" type="datetime3">
              <a:rPr b="0" lang="en-US" sz="1200" spc="-1" strike="noStrike">
                <a:solidFill>
                  <a:srgbClr val="000000"/>
                </a:solidFill>
                <a:latin typeface="Times New Roman"/>
                <a:ea typeface="Arial"/>
              </a:rPr>
              <a:t>July 29,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72020EA-88A1-45AC-B003-59DF92FAA35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3A2830-8901-4A54-95A8-1AA878974B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CE792-F4BE-4F1C-BD33-312D06C89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5AB19C-498A-48E1-8E70-0E3E8FF893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B439F1-D86C-48A6-8D07-19FCC45374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EBDB6-A17C-4501-ADCF-D6E5BAB0E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4AECD4-6147-43E5-99F4-894D724722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5CF25C-FFBD-4610-B745-00D72BCD41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1BAE2E-2448-45EC-B881-BAAC034374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E4157E-45CA-47FB-B2F7-07DB9DD7C7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9DF25B-8CBD-4319-9AE8-438EFB1085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CB218-D168-431F-AC54-D10240E31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FD2D74-B76C-4044-BE28-CE3DF9D684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F0F5DD-45D0-4926-8285-6FA577046B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640018-4636-47C8-9BB1-76C5B46780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9FC385-6770-4196-A900-50C25C4EB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5D54C9-CECB-4F93-A639-4CC91C78AE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D7B4BE-AEEE-47D1-91B3-0C55A20D63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8EEB70-E138-4CB6-9F8C-D12E09EF11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45F10-DEBD-4236-B31E-261AA553D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B08F0-352A-4023-B5E7-548351D5A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6DBE5-E877-48EA-9886-68FF302A3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77972-6A6C-4BA3-A839-71F1987A8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E5CF6-82C5-49D5-987A-0AD67D6AA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5AAC0-74E0-422A-B356-41BF8F3881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D34C9-B818-4584-9A99-5EEC6E6846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2F2702E-E94E-4EAB-9989-9A8AF6C491F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1608769-4C3C-4D67-88DE-283E4037BFC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69E3366-A7DB-4699-97CC-97DDBCD81B1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E2A14-354D-40C3-A768-0CC8A75506A7}"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D02B510-6C84-42E5-8BEB-DB4DBB3804A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CABC6B6-B361-4FA0-84DD-1BE6E1CD5A7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A5A226B-E4D0-4E36-BC10-BC0EE5A7CFD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